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34272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Mississippia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2222640" y="1066680"/>
            <a:ext cx="8839080" cy="687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Territory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Mississippian cultures ranged from areas between the Mississippi Valley into Alabama, Georgia, and Florida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largest city within the tribe is Cahokia, which spread across 6 square miles with a population of 20,000 people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-50760" y="0"/>
            <a:ext cx="1310652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Environment/landscap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Mississippian tribe primarily lived in the valleys surrounding the Mississippi River. On the few plateaus in the Mississippian territories they built temples to praise the god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tribeís houses were built in orderly rows and around open plazas. The main agricultural fields lay outside the tribeís citie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5689440" y="507960"/>
            <a:ext cx="6388200" cy="50799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825480" y="7988400"/>
            <a:ext cx="15750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7920" y="71100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Food</a:t>
            </a: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	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-360" y="369540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Most common crop: Corn and maize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Women were the cartakers of the farm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rops that were grown include corn,maize beans, squash, pumpkin, and sunflower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Becuase of fertal farm land, the were able to use intense farming technique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6"/>
          <a:stretch/>
        </p:blipFill>
        <p:spPr>
          <a:xfrm>
            <a:off x="9740880" y="88920"/>
            <a:ext cx="317520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07160" y="304560"/>
            <a:ext cx="4051440" cy="1663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Housing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17520" y="291960"/>
            <a:ext cx="510552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406440"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atched roofs and mud plaster wall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rranged around open plaza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863640" indent="-40644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Mounds for chiefs houses, as well as for places for praying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6578640" y="2349360"/>
            <a:ext cx="6110280" cy="39751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3643200" y="6578640"/>
            <a:ext cx="9436320" cy="32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2996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Transportation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4480" y="2184480"/>
            <a:ext cx="5790960" cy="646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anoes used for transportation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sides of canoe burned to be more water resistant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dze- a tool used to carve the canoe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5"/>
          <a:stretch/>
        </p:blipFill>
        <p:spPr>
          <a:xfrm>
            <a:off x="8978760" y="2933640"/>
            <a:ext cx="3810240" cy="38862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6"/>
          <a:stretch/>
        </p:blipFill>
        <p:spPr>
          <a:xfrm>
            <a:off x="8077320" y="7112160"/>
            <a:ext cx="4698720" cy="24890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7"/>
          <a:stretch/>
        </p:blipFill>
        <p:spPr>
          <a:xfrm>
            <a:off x="10312560" y="1409760"/>
            <a:ext cx="248904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ahokia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45720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ahokia is one of the largest city and tribes under the regional name of Mississippian.  The name originates from a sub-tribe of the Illini, who came from the east not reaching the area until the 1600í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SzPct val="66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my Bongard</cp:lastModifiedBy>
  <dcterms:modified xsi:type="dcterms:W3CDTF">2009-09-03T14:10:41Z</dcterms:modified>
  <cp:revision>1</cp:revision>
  <dc:subject/>
  <dc:title>Mississippian</dc:title>
</cp:coreProperties>
</file>